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3.jpeg" ContentType="image/jpeg"/>
  <Override PartName="/ppt/media/image45.png" ContentType="image/png"/>
  <Override PartName="/ppt/media/image35.jpeg" ContentType="image/jpeg"/>
  <Override PartName="/ppt/media/image10.png" ContentType="image/png"/>
  <Override PartName="/ppt/media/image27.jpeg" ContentType="image/jpeg"/>
  <Override PartName="/ppt/media/image40.png" ContentType="image/png"/>
  <Override PartName="/ppt/media/image8.jpeg" ContentType="image/jpeg"/>
  <Override PartName="/ppt/media/image38.png" ContentType="image/png"/>
  <Override PartName="/ppt/media/image31.jpeg" ContentType="image/jpeg"/>
  <Override PartName="/ppt/media/image41.png" ContentType="image/png"/>
  <Override PartName="/ppt/media/image44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125F-5250-4403-98B2-79EBBEC9B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8785-FAAB-4C11-B71B-D291E98C0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2571-8BD5-4E37-BA49-AACA25F00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2DB5-3746-4360-ACCC-18B2D771A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BDDF-6237-47F2-9133-4B0806AF0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98B7-BABC-463A-A38B-1DFCFA5AA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3A9A-E81C-4DB2-8412-84F0E3AA7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43BE-1C47-42D4-8929-D9A32021B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AE75-41ED-43FC-8A61-1BDABAE1C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E285-28F8-4CF0-8317-2D4030A3F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0AC8-DA17-4B69-83B2-BB4F2808A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C5A7-DCA4-4DBF-8F5B-A1FA1FBE0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532E-0E42-4B11-8616-34E50675A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2FFD-2BA1-4D7B-A114-49E986F8B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4EF2-F82F-4EA8-8022-182F2ABAF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5C24-92B0-4241-A757-56038D2FA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43F8-6A71-4C79-98CD-748B705CD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333E-A750-4B2E-B650-BB3307C30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215E-56D3-400C-8561-EA9056A1B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CA29-B98B-4AA6-B8E9-020FA7312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9572-A5F1-44FA-BD57-BCFC26854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7F54-D006-4A91-B627-D14CD632F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CF38-4386-493E-8ACF-1E7BAA6AA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4069-3C0F-47CA-9D70-63E58EFA8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9317-CD58-440B-92D5-EF8DC4E4B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14D1-B454-480C-BBEB-5E7D8A25E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6163-2746-41B6-84E4-E852497B8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0923-140D-42B0-9100-71D5AF7BB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1BA6-409A-4C0E-9D9D-767A61E1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4A6F-5E11-42CB-B77E-06327FA9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E54-EFFC-45AE-B233-3D5DDEEB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7A54-B350-45C6-9B34-355D8821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7CC-6799-474D-A90F-01845002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D32-FB78-4986-ABB8-8F702965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805-02A0-447B-B3A4-AA1412B0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D213-EC79-4A3A-82CE-7F255380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0A4-613F-4D4A-800A-AF614FC6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160-27A3-40CD-82E6-8249790E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DEE-477A-449A-8911-DE343E48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D01-E428-444F-9C03-8EA61E5E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A0CD-523D-4743-92A9-787C9E02B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owerpoint 8"/>
          <p:cNvPicPr/>
          <p:nvPr/>
        </p:nvPicPr>
        <p:blipFill>
          <a:blip r:embed="rId1"/>
          <a:stretch/>
        </p:blipFill>
        <p:spPr>
          <a:xfrm>
            <a:off x="2448000" y="333360"/>
            <a:ext cx="4248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owerpoint 10"/>
          <p:cNvPicPr/>
          <p:nvPr/>
        </p:nvPicPr>
        <p:blipFill>
          <a:blip r:embed="rId1"/>
          <a:stretch/>
        </p:blipFill>
        <p:spPr>
          <a:xfrm>
            <a:off x="276120" y="-95400"/>
            <a:ext cx="8591760" cy="70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owerpoint 11"/>
          <p:cNvPicPr/>
          <p:nvPr/>
        </p:nvPicPr>
        <p:blipFill>
          <a:blip r:embed="rId1"/>
          <a:stretch/>
        </p:blipFill>
        <p:spPr>
          <a:xfrm>
            <a:off x="1452600" y="314280"/>
            <a:ext cx="62388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owerpoint 12"/>
          <p:cNvPicPr/>
          <p:nvPr/>
        </p:nvPicPr>
        <p:blipFill>
          <a:blip r:embed="rId1"/>
          <a:stretch/>
        </p:blipFill>
        <p:spPr>
          <a:xfrm>
            <a:off x="1452600" y="314280"/>
            <a:ext cx="62388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owerpoint 13"/>
          <p:cNvPicPr/>
          <p:nvPr/>
        </p:nvPicPr>
        <p:blipFill>
          <a:blip r:embed="rId1"/>
          <a:stretch/>
        </p:blipFill>
        <p:spPr>
          <a:xfrm>
            <a:off x="1452600" y="314280"/>
            <a:ext cx="62388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owerpoint 14"/>
          <p:cNvPicPr/>
          <p:nvPr/>
        </p:nvPicPr>
        <p:blipFill>
          <a:blip r:embed="rId1"/>
          <a:stretch/>
        </p:blipFill>
        <p:spPr>
          <a:xfrm>
            <a:off x="700200" y="1252440"/>
            <a:ext cx="77436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owerpoint 15"/>
          <p:cNvPicPr/>
          <p:nvPr/>
        </p:nvPicPr>
        <p:blipFill>
          <a:blip r:embed="rId1"/>
          <a:stretch/>
        </p:blipFill>
        <p:spPr>
          <a:xfrm>
            <a:off x="1533600" y="1747800"/>
            <a:ext cx="60768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_40153810_district2_map203"/>
          <p:cNvPicPr/>
          <p:nvPr/>
        </p:nvPicPr>
        <p:blipFill>
          <a:blip r:embed="rId1"/>
          <a:stretch/>
        </p:blipFill>
        <p:spPr>
          <a:xfrm>
            <a:off x="3605040" y="1838160"/>
            <a:ext cx="19339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_40153814_district24_map203"/>
          <p:cNvPicPr/>
          <p:nvPr/>
        </p:nvPicPr>
        <p:blipFill>
          <a:blip r:embed="rId1"/>
          <a:stretch/>
        </p:blipFill>
        <p:spPr>
          <a:xfrm>
            <a:off x="3605040" y="1838160"/>
            <a:ext cx="19339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powerpoint 16"/>
          <p:cNvPicPr/>
          <p:nvPr/>
        </p:nvPicPr>
        <p:blipFill>
          <a:blip r:embed="rId1"/>
          <a:stretch/>
        </p:blipFill>
        <p:spPr>
          <a:xfrm>
            <a:off x="1866960" y="1395360"/>
            <a:ext cx="54100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owerpoint2"/>
          <p:cNvPicPr/>
          <p:nvPr/>
        </p:nvPicPr>
        <p:blipFill>
          <a:blip r:embed="rId1"/>
          <a:stretch/>
        </p:blipFill>
        <p:spPr>
          <a:xfrm>
            <a:off x="1862280" y="1662120"/>
            <a:ext cx="5419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powerpoint 18"/>
          <p:cNvPicPr/>
          <p:nvPr/>
        </p:nvPicPr>
        <p:blipFill>
          <a:blip r:embed="rId1"/>
          <a:stretch/>
        </p:blipFill>
        <p:spPr>
          <a:xfrm>
            <a:off x="1938240" y="1347840"/>
            <a:ext cx="52675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powerpoint dakota"/>
          <p:cNvPicPr/>
          <p:nvPr/>
        </p:nvPicPr>
        <p:blipFill>
          <a:blip r:embed="rId1"/>
          <a:stretch/>
        </p:blipFill>
        <p:spPr>
          <a:xfrm>
            <a:off x="2457360" y="762120"/>
            <a:ext cx="4229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powerpoint 17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powerpoint 17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owerpoint 17"/>
          <p:cNvPicPr/>
          <p:nvPr/>
        </p:nvPicPr>
        <p:blipFill>
          <a:blip r:embed="rId3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Solid South 80-60"/>
          <p:cNvPicPr/>
          <p:nvPr/>
        </p:nvPicPr>
        <p:blipFill>
          <a:blip r:embed="rId1"/>
          <a:stretch/>
        </p:blipFill>
        <p:spPr>
          <a:xfrm>
            <a:off x="1871640" y="1981080"/>
            <a:ext cx="5400720" cy="289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powerpoint 45"/>
          <p:cNvPicPr/>
          <p:nvPr/>
        </p:nvPicPr>
        <p:blipFill>
          <a:blip r:embed="rId2"/>
          <a:stretch/>
        </p:blipFill>
        <p:spPr>
          <a:xfrm>
            <a:off x="1876320" y="262080"/>
            <a:ext cx="539136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Solid South 64-04"/>
          <p:cNvPicPr/>
          <p:nvPr/>
        </p:nvPicPr>
        <p:blipFill>
          <a:blip r:embed="rId1"/>
          <a:stretch/>
        </p:blipFill>
        <p:spPr>
          <a:xfrm>
            <a:off x="1871640" y="1981080"/>
            <a:ext cx="5400720" cy="2895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powerpoint 46"/>
          <p:cNvPicPr/>
          <p:nvPr/>
        </p:nvPicPr>
        <p:blipFill>
          <a:blip r:embed="rId2"/>
          <a:stretch/>
        </p:blipFill>
        <p:spPr>
          <a:xfrm>
            <a:off x="1947960" y="1647720"/>
            <a:ext cx="5248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powerpoint 19"/>
          <p:cNvPicPr/>
          <p:nvPr/>
        </p:nvPicPr>
        <p:blipFill>
          <a:blip r:embed="rId1"/>
          <a:stretch/>
        </p:blipFill>
        <p:spPr>
          <a:xfrm>
            <a:off x="1195560" y="1309680"/>
            <a:ext cx="6752880" cy="423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powerpoint 19"/>
          <p:cNvPicPr/>
          <p:nvPr/>
        </p:nvPicPr>
        <p:blipFill>
          <a:blip r:embed="rId2"/>
          <a:stretch/>
        </p:blipFill>
        <p:spPr>
          <a:xfrm>
            <a:off x="1195560" y="1309680"/>
            <a:ext cx="67528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00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D:\Anglo seminari 2012\5 i 4-5\Predsjednički izbori\Sl.1. Pobjednički kandidati po saveznim državama na američkim predsjedničkim izborima 2000. godine.jpg"/>
          <p:cNvPicPr/>
          <p:nvPr/>
        </p:nvPicPr>
        <p:blipFill>
          <a:blip r:embed="rId2"/>
          <a:stretch/>
        </p:blipFill>
        <p:spPr>
          <a:xfrm>
            <a:off x="826920" y="1773360"/>
            <a:ext cx="7596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04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D:\Anglo seminari 2012\5 i 4-5\Predsjednički izbori\Sl.2. Pobjednički kandidati po saveznim državama na američkim predsjedničkim izborima 2004. godine.jpg"/>
          <p:cNvPicPr/>
          <p:nvPr/>
        </p:nvPicPr>
        <p:blipFill>
          <a:blip r:embed="rId2"/>
          <a:stretch/>
        </p:blipFill>
        <p:spPr>
          <a:xfrm>
            <a:off x="900000" y="1881360"/>
            <a:ext cx="7667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08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D:\Anglo seminari 2012\5 i 4-5\Predsjednički izbori\Sl.3. Pobjednički kandidati po saveznim državama na američkim predsjedničkim izborima 2008. godine.jpg"/>
          <p:cNvPicPr/>
          <p:nvPr/>
        </p:nvPicPr>
        <p:blipFill>
          <a:blip r:embed="rId2"/>
          <a:stretch/>
        </p:blipFill>
        <p:spPr>
          <a:xfrm>
            <a:off x="108000" y="1963800"/>
            <a:ext cx="7523280" cy="376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Anglo seminari 2012\5 i 4-5\Predsjednički izbori\Sl.3. Pobjednički kandidati po saveznim državama na američkim predsjedničkim izborima 2008. godine.jpg"/>
          <p:cNvPicPr/>
          <p:nvPr/>
        </p:nvPicPr>
        <p:blipFill>
          <a:blip r:embed="rId3"/>
          <a:stretch/>
        </p:blipFill>
        <p:spPr>
          <a:xfrm>
            <a:off x="539640" y="1819440"/>
            <a:ext cx="809964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12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D:\Anglo seminari 2012\5 i 4-5\Predsjednički izbori\Sl.4. Pobjednički kandidati po saveznim državama na američkim predsjedničkim izborima 2012. godine.jpg"/>
          <p:cNvPicPr/>
          <p:nvPr/>
        </p:nvPicPr>
        <p:blipFill>
          <a:blip r:embed="rId2"/>
          <a:stretch/>
        </p:blipFill>
        <p:spPr>
          <a:xfrm>
            <a:off x="539640" y="1628640"/>
            <a:ext cx="86043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owerpoint 2"/>
          <p:cNvPicPr/>
          <p:nvPr/>
        </p:nvPicPr>
        <p:blipFill>
          <a:blip r:embed="rId1"/>
          <a:stretch/>
        </p:blipFill>
        <p:spPr>
          <a:xfrm>
            <a:off x="2057400" y="1724040"/>
            <a:ext cx="50292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zultati izbora 20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s://upload.wikimedia.org/wikipedia/commons/thumb/e/ec/ElectoralCollege2016.svg/1020px-ElectoralCollege2016.svg.png"/>
          <p:cNvPicPr/>
          <p:nvPr/>
        </p:nvPicPr>
        <p:blipFill>
          <a:blip r:embed="rId1"/>
          <a:stretch/>
        </p:blipFill>
        <p:spPr>
          <a:xfrm>
            <a:off x="679320" y="1600200"/>
            <a:ext cx="778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powerpoint 44"/>
          <p:cNvPicPr/>
          <p:nvPr/>
        </p:nvPicPr>
        <p:blipFill>
          <a:blip r:embed="rId1"/>
          <a:stretch/>
        </p:blipFill>
        <p:spPr>
          <a:xfrm>
            <a:off x="804960" y="685800"/>
            <a:ext cx="7534080" cy="548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powerpoint 44"/>
          <p:cNvPicPr/>
          <p:nvPr/>
        </p:nvPicPr>
        <p:blipFill>
          <a:blip r:embed="rId2"/>
          <a:stretch/>
        </p:blipFill>
        <p:spPr>
          <a:xfrm>
            <a:off x="804960" y="685800"/>
            <a:ext cx="7534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ržave bojišnice na izborima 2012. - progn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zervirano mjesto sadržaja 3" descr="swing prognoza.bmp"/>
          <p:cNvPicPr/>
          <p:nvPr/>
        </p:nvPicPr>
        <p:blipFill>
          <a:blip r:embed="rId1"/>
          <a:stretch/>
        </p:blipFill>
        <p:spPr>
          <a:xfrm>
            <a:off x="808200" y="1600200"/>
            <a:ext cx="752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e bojišnice na izborima 20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s://upload.wikimedia.org/wikipedia/commons/e/e1/Swing-2016.png"/>
          <p:cNvPicPr/>
          <p:nvPr/>
        </p:nvPicPr>
        <p:blipFill>
          <a:blip r:embed="rId1"/>
          <a:stretch/>
        </p:blipFill>
        <p:spPr>
          <a:xfrm>
            <a:off x="851040" y="1697040"/>
            <a:ext cx="74419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powerpoint 21"/>
          <p:cNvPicPr/>
          <p:nvPr/>
        </p:nvPicPr>
        <p:blipFill>
          <a:blip r:embed="rId1"/>
          <a:stretch/>
        </p:blipFill>
        <p:spPr>
          <a:xfrm>
            <a:off x="1562040" y="1214280"/>
            <a:ext cx="6019920" cy="4429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powerpoint 21"/>
          <p:cNvPicPr/>
          <p:nvPr/>
        </p:nvPicPr>
        <p:blipFill>
          <a:blip r:embed="rId2"/>
          <a:stretch/>
        </p:blipFill>
        <p:spPr>
          <a:xfrm>
            <a:off x="1562040" y="1214280"/>
            <a:ext cx="601992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powerpoint 22"/>
          <p:cNvPicPr/>
          <p:nvPr/>
        </p:nvPicPr>
        <p:blipFill>
          <a:blip r:embed="rId1"/>
          <a:stretch/>
        </p:blipFill>
        <p:spPr>
          <a:xfrm>
            <a:off x="1376280" y="1114560"/>
            <a:ext cx="639144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ferencije bijelaca (veljača-studeni 20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Rezervirano mjesto sadržaja 3" descr="bijeli nehispano.bmp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ferencije crnaca (veljača-studeni 20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Rezervirano mjesto sadržaja 3" descr="crni nehispano.bmp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owerpoint 36"/>
          <p:cNvPicPr/>
          <p:nvPr/>
        </p:nvPicPr>
        <p:blipFill>
          <a:blip r:embed="rId1"/>
          <a:stretch/>
        </p:blipFill>
        <p:spPr>
          <a:xfrm>
            <a:off x="371520" y="1585800"/>
            <a:ext cx="84009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powerpoint 38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Čuvanje interesa malih drž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owerpoint 3"/>
          <p:cNvPicPr/>
          <p:nvPr/>
        </p:nvPicPr>
        <p:blipFill>
          <a:blip r:embed="rId1"/>
          <a:stretch/>
        </p:blipFill>
        <p:spPr>
          <a:xfrm>
            <a:off x="1862280" y="1662120"/>
            <a:ext cx="5419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lasovi na izborima 2016. prema dobi i rasi (plavo Clinton, crveno Tru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33360" y="1552680"/>
          <a:ext cx="4006800" cy="4620960"/>
        </p:xfrm>
        <a:graphic>
          <a:graphicData uri="http://schemas.openxmlformats.org/drawingml/2006/table">
            <a:tbl>
              <a:tblPr/>
              <a:tblGrid>
                <a:gridCol w="1335240"/>
                <a:gridCol w="1336680"/>
                <a:gridCol w="1334880"/>
              </a:tblGrid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18-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18-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18-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30-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30312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30-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30-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312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45-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45-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45-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53100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65 and ol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53100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65 and ol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5313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65 and ol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Oth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powerpoint 43"/>
          <p:cNvPicPr/>
          <p:nvPr/>
        </p:nvPicPr>
        <p:blipFill>
          <a:blip r:embed="rId1"/>
          <a:stretch/>
        </p:blipFill>
        <p:spPr>
          <a:xfrm>
            <a:off x="2281320" y="866880"/>
            <a:ext cx="458136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Povezana slika"/>
          <p:cNvPicPr/>
          <p:nvPr/>
        </p:nvPicPr>
        <p:blipFill>
          <a:blip r:embed="rId1"/>
          <a:stretch/>
        </p:blipFill>
        <p:spPr>
          <a:xfrm>
            <a:off x="762120" y="1814400"/>
            <a:ext cx="761976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Čuvanje interesa velikih drž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owerpoint 4"/>
          <p:cNvPicPr/>
          <p:nvPr/>
        </p:nvPicPr>
        <p:blipFill>
          <a:blip r:embed="rId1"/>
          <a:stretch/>
        </p:blipFill>
        <p:spPr>
          <a:xfrm>
            <a:off x="2219400" y="1467000"/>
            <a:ext cx="47052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ko pobjednik narodnog glasanja može dobiti većinu glasova elekt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upload.wikimedia.org/wikipedia/commons/5/51/PopWinnerLosesElecVote.png"/>
          <p:cNvPicPr/>
          <p:nvPr/>
        </p:nvPicPr>
        <p:blipFill>
          <a:blip r:embed="rId1"/>
          <a:stretch/>
        </p:blipFill>
        <p:spPr>
          <a:xfrm>
            <a:off x="2895480" y="2224080"/>
            <a:ext cx="335304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Broj narodnih glasova na izborima 20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s://upload.wikimedia.org/wikipedia/commons/thumb/7/7d/United_States_presidential_election%2C_2016_Cartogram.png/498px-United_States_presidential_election%2C_2016_Cartogram.png"/>
          <p:cNvPicPr/>
          <p:nvPr/>
        </p:nvPicPr>
        <p:blipFill>
          <a:blip r:embed="rId1"/>
          <a:stretch/>
        </p:blipFill>
        <p:spPr>
          <a:xfrm>
            <a:off x="1409760" y="1959120"/>
            <a:ext cx="63244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zultati izbora 20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upload.wikimedia.org/wikipedia/commons/thumb/e/ec/ElectoralCollege2016.svg/1020px-ElectoralCollege2016.svg.png"/>
          <p:cNvPicPr/>
          <p:nvPr/>
        </p:nvPicPr>
        <p:blipFill>
          <a:blip r:embed="rId1"/>
          <a:stretch/>
        </p:blipFill>
        <p:spPr>
          <a:xfrm>
            <a:off x="679320" y="1600200"/>
            <a:ext cx="778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T051485A"/>
          <p:cNvPicPr/>
          <p:nvPr/>
        </p:nvPicPr>
        <p:blipFill>
          <a:blip r:embed="rId1"/>
          <a:stretch/>
        </p:blipFill>
        <p:spPr>
          <a:xfrm>
            <a:off x="2666880" y="1270080"/>
            <a:ext cx="38102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4:44:34Z</dcterms:created>
  <dc:creator>Your User Name</dc:creator>
  <dc:description/>
  <dc:language>en-US</dc:language>
  <cp:lastModifiedBy>Laura Šakaja</cp:lastModifiedBy>
  <dcterms:modified xsi:type="dcterms:W3CDTF">2018-12-04T09:54:11Z</dcterms:modified>
  <cp:revision>43</cp:revision>
  <dc:subject/>
  <dc:title>Slide 1</dc:title>
</cp:coreProperties>
</file>